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082-47AC-4662-AEA7-CB98DBCE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536-5CF9-434D-89AA-AF980641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68D-B828-41EB-B0B3-47DFA94F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53C-7245-47F2-899E-DA7AC654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3F6-3B41-4AFE-9F21-D4924DD5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0F6-8535-457D-B8E7-AAAFA5C3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7EC-B437-4D64-954F-722873F1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CC3-876E-460A-9EA3-09B4595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BE6-92C3-4425-8EEC-8BDD2D00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46E-8754-462A-9846-9E6B0EB2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913-0153-43A7-B8F6-B7385867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A22-C346-4158-B14C-1F3ED25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AB36-70FE-4612-82FC-A840EAB596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71640" y="2276640"/>
            <a:ext cx="3384000" cy="3528000"/>
            <a:chOff x="2771640" y="2276640"/>
            <a:chExt cx="3384000" cy="3528000"/>
          </a:xfrm>
        </p:grpSpPr>
        <p:sp>
          <p:nvSpPr>
            <p:cNvPr id="42" name=""/>
            <p:cNvSpPr/>
            <p:nvPr/>
          </p:nvSpPr>
          <p:spPr>
            <a:xfrm>
              <a:off x="2771640" y="250236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5760" y="273060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98080" y="295884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7040" y="2276640"/>
              <a:ext cx="33768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48080" y="3413520"/>
              <a:ext cx="337680" cy="34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97720" y="387000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38640" y="375444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85760" y="409608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33600" y="443736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38640" y="432396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77040" y="489384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17600" y="546336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42" idx="6"/>
              <a:endCxn id="43" idx="1"/>
            </p:cNvCxnSpPr>
            <p:nvPr/>
          </p:nvCxnSpPr>
          <p:spPr>
            <a:xfrm>
              <a:off x="3109680" y="2673000"/>
              <a:ext cx="275760" cy="10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"/>
            <p:cNvCxnSpPr>
              <a:stCxn id="43" idx="6"/>
              <a:endCxn id="44" idx="1"/>
            </p:cNvCxnSpPr>
            <p:nvPr/>
          </p:nvCxnSpPr>
          <p:spPr>
            <a:xfrm>
              <a:off x="3673800" y="2901240"/>
              <a:ext cx="273960" cy="10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44" idx="7"/>
              <a:endCxn id="45" idx="3"/>
            </p:cNvCxnSpPr>
            <p:nvPr/>
          </p:nvCxnSpPr>
          <p:spPr>
            <a:xfrm flipV="1">
              <a:off x="4186800" y="2568240"/>
              <a:ext cx="43992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44" idx="3"/>
              <a:endCxn id="46" idx="7"/>
            </p:cNvCxnSpPr>
            <p:nvPr/>
          </p:nvCxnSpPr>
          <p:spPr>
            <a:xfrm flipH="1">
              <a:off x="3736440" y="3250440"/>
              <a:ext cx="211320" cy="21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" name=""/>
            <p:cNvCxnSpPr>
              <a:stCxn id="46" idx="3"/>
              <a:endCxn id="47" idx="7"/>
            </p:cNvCxnSpPr>
            <p:nvPr/>
          </p:nvCxnSpPr>
          <p:spPr>
            <a:xfrm flipH="1">
              <a:off x="3286440" y="3704400"/>
              <a:ext cx="211320" cy="21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"/>
            <p:cNvCxnSpPr>
              <a:stCxn id="44" idx="5"/>
              <a:endCxn id="48" idx="0"/>
            </p:cNvCxnSpPr>
            <p:nvPr/>
          </p:nvCxnSpPr>
          <p:spPr>
            <a:xfrm>
              <a:off x="4186800" y="3250440"/>
              <a:ext cx="221400" cy="50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stCxn id="48" idx="5"/>
              <a:endCxn id="51" idx="1"/>
            </p:cNvCxnSpPr>
            <p:nvPr/>
          </p:nvCxnSpPr>
          <p:spPr>
            <a:xfrm>
              <a:off x="4527360" y="4046040"/>
              <a:ext cx="660960" cy="32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>
              <a:stCxn id="51" idx="5"/>
              <a:endCxn id="52" idx="0"/>
            </p:cNvCxnSpPr>
            <p:nvPr/>
          </p:nvCxnSpPr>
          <p:spPr>
            <a:xfrm>
              <a:off x="5427360" y="4615560"/>
              <a:ext cx="219240" cy="27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" name=""/>
            <p:cNvCxnSpPr>
              <a:stCxn id="52" idx="5"/>
              <a:endCxn id="53" idx="0"/>
            </p:cNvCxnSpPr>
            <p:nvPr/>
          </p:nvCxnSpPr>
          <p:spPr>
            <a:xfrm>
              <a:off x="5765760" y="5185440"/>
              <a:ext cx="221400" cy="27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"/>
            <p:cNvCxnSpPr>
              <a:stCxn id="48" idx="3"/>
              <a:endCxn id="49" idx="7"/>
            </p:cNvCxnSpPr>
            <p:nvPr/>
          </p:nvCxnSpPr>
          <p:spPr>
            <a:xfrm flipH="1">
              <a:off x="4074480" y="4046040"/>
              <a:ext cx="213840" cy="10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" name=""/>
            <p:cNvCxnSpPr>
              <a:stCxn id="49" idx="3"/>
              <a:endCxn id="50" idx="7"/>
            </p:cNvCxnSpPr>
            <p:nvPr/>
          </p:nvCxnSpPr>
          <p:spPr>
            <a:xfrm flipH="1">
              <a:off x="3622320" y="4387680"/>
              <a:ext cx="213120" cy="9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" name=""/>
          <p:cNvSpPr/>
          <p:nvPr/>
        </p:nvSpPr>
        <p:spPr>
          <a:xfrm>
            <a:off x="450360" y="4968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49:03Z</dcterms:modified>
  <cp:revision>24</cp:revision>
  <dc:subject/>
  <dc:title>Slide 1</dc:title>
</cp:coreProperties>
</file>